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RBRAK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D399-A174-492B-BAEE-2D6D08D79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C136-B963-4736-97B4-94DF145C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7AE0-1F77-48EF-BA7D-8526D161C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5E7B-8656-42D6-99D4-6B7E95B69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C761-FBE8-42A3-853B-0EE64EFB4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94E9-58C8-4F80-9B5E-FAD76259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EEA4-E1D0-446A-B4A4-411A142B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B979-A530-4D84-BAA7-4A15CE93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31D8-FC46-4B1D-ACF2-E70089CB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3644-A6F4-4AC2-A372-A5E82B72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FC0D-BF69-4B49-AAFE-C15A6429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7441-46CE-4A1B-8A4C-1A513786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4547-FFFC-4C96-B25A-713D5C23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ECD6-9163-4AEB-96B8-8A20F1C8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86B7-6501-4F2B-9E01-9365EA4D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60D5-F497-4CEE-8EDF-11296B166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0277-0DA0-4875-B79F-C53F437CF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201D-DC71-43CB-BA99-0FC160E2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B6DC-47D3-4BD6-BB96-16BCD233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E55A-BE8E-4281-8A8E-8A95EEA1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8C25-466A-4E0E-A60E-7123B455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129B-EC84-425E-B8D4-927EFECC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6F65-D2B0-4261-A7B3-305BDD3A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332B-9BDE-4FCD-9E2B-00F934E4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57A0-A443-4112-B749-D9BE61E02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CCD9-B14F-4881-B99C-503933417D9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-812880" algn="ctr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第三章  保险营销管理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三节  传统的保险营销模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代理人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代理人的种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代理人的业务范围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代理人的法律特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四）保险代理人营销的优缺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保险经纪人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经纪人的种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经纪人的职业操守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经纪人的业务运作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四节  创新的保险营销模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电话营销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电话营销的优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电话营销的缺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互联网营销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互联网营销的优点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大大降低了展业成本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增加了新的销售机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有利于提高保险服务质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网络营销的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安全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法律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道德风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银行保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银行保险的产生和发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银行保险的合作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合作协议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合资公司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建立金融服务集团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金融服务集团的经营模式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五节  大数据和互联网保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中的大数据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中大数据技术是基于对海量数据进行分析，从不同维度和深度挖掘保险应用特性，进而优化保险价值链条的各个环节。其中精准营销和精准定价以及反欺诈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大数据在精准营销中的作用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精准获取新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持续转化准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减少退保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互联网保险的定义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广义定义：互联网保险业务是指保险机构依托互联网和移动通信等技术，通过自营网络平台、第三方网络平台等开展保险业务、提供保险服务的保险经营活动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狭义定义：互联网保险是指基于互联网、大数据、云数据等信息技术手段，从保险产品设计、风险管理和保险信息咨询到投保、核保、保全、理赔和给付等保险全过程互联网化的保险经营活动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互联网保险参与的主体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开展互联网保险业务的传统保险公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专业互联网保险公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三方电子商务平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三方中介平台。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第一节   保险营销的概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营销  保险代理人  保险经纪人   互联网营销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银行保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保险营销的宏观环境因素和微观环境因素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经纪人的业务运作主要包括哪些方面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新险种开发的主要步骤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新险种开发时如何优化险种组合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电话营销？它有什么优缺点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有哪些优点？存在哪些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银行保险的合作方式有哪些？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9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什么是互联网保险（狭义）？我国互联网保险参与主体有哪些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营销的概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营销的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P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要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产品、价格、分销渠道和促销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保险营销的发展阶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产品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销售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市场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保险营销环境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宏观环境分析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微观环境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投保人行为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二节    保险新险种的开发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一、保险新险种的界定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新险种是指整体险种或其中的一部分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所创新或改革，能够给保险消费者带来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利益和满足的险种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二、保险新险种开发的步骤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新险种开发的程序包括构思的形成、构思的筛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选、市场分析、开发设计、试销过程和商品化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步骤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三、保险新险种开发的策略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目标市场策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保险产品组合策略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险种质量优化策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29:14Z</dcterms:modified>
  <cp:revision>24</cp:revision>
  <dc:subject/>
  <dc:title>没有幻灯片标题</dc:title>
</cp:coreProperties>
</file>